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0400-023A-4C5E-96ED-F8F43002E0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B53D-D35C-4DED-AD76-B422237ED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B290-D12F-4469-B40E-B62A9BA60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6F20-D3C1-419B-BA8E-DDB1C4E4C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A2D1-5B2E-411E-AA45-CE20B942D4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EBD1-F95B-4EC5-A366-3F787921C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3D07-5A29-496F-BC56-82A7A91D24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1349-2106-40BC-B822-9B48DFC52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01AA-FE26-435A-AB55-D03D261E7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C15B-1912-4249-B027-3442C84303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3C15-5931-4A2A-BF2D-44E7514975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1928-AA1D-4718-BE4E-BC179855A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DAC4-06F8-4658-9995-6639C776E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9898-F18B-4752-8614-2595604F4D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4CB8-0CDD-4663-80C8-53D7B08DA3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D61E-17F8-4F7C-9AA5-12556FA53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287-388D-45B1-A971-9AA2BEF8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99C-BD45-472B-8563-9F5E3DAA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D6C-DBEB-43E7-88E4-5382E7D1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51F-64BF-4E73-8BC1-2EAFC092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B330-6705-4BD0-B0EA-16A76688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6AA-20AC-40D3-A55C-DC13BFB5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AC9D-B8B3-4FD4-BBEC-B52B1BE0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60C7-4632-415F-851B-083910B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3EE9-8F35-41AF-9F8D-DE741802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9766-371A-4F78-9BBE-68D1ED6E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B77B-9A9F-4372-89DE-33F48B48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432-D082-4000-9A50-FF57BE17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44C6-7BA1-4941-B508-DE57E163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A434-03DB-49A2-B064-5D0BB93A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98BF-430E-4006-8AB2-F570022A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676C-1C22-4CC6-AB0B-7BABE5F2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FEF0-73C4-40F6-B07A-60F23F78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A64-9570-420F-8D9D-6F9C98F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E1D-CB01-4F37-A572-405076A6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800-31F7-44C6-BCD0-09234856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2CC-AD3D-4491-8781-7C790DD6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6ED-6CA0-4945-A336-F503C386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4F0-D59D-4D43-A746-18727759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5E3-CDE0-43DD-B348-3D9377F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22D3-9231-47A3-9076-5ECD217836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3191-869E-4146-AC44-4E24D66DE0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0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br>
              <a:rPr sz="5500"/>
            </a:br>
            <a:r>
              <a:rPr b="1" lang="en-US" sz="5500" spc="-1" strike="noStrike">
                <a:solidFill>
                  <a:srgbClr val="330066"/>
                </a:solidFill>
                <a:latin typeface="Times New Roman"/>
              </a:rPr>
              <a:t>Биосинтез белка и его регуляция в клетке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250920" y="234936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иоле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2556000" y="184464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иопл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4716360" y="2421000"/>
            <a:ext cx="2016360" cy="792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ом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6877080" y="1989000"/>
            <a:ext cx="2016000" cy="792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др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547640" y="260280"/>
            <a:ext cx="6193080" cy="7192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оненты я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250920" y="3500280"/>
            <a:ext cx="1944720" cy="2592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592720"/>
              <a:gd name="textAreaBottom" fmla="*/ 2498040 h 2592720"/>
            </a:gdLst>
            <a:ahLst/>
            <a:rect l="textAreaLeft" t="textAreaTop" r="textAreaRight" b="textAreaBottom"/>
            <a:pathLst>
              <a:path w="21600" h="28796">
                <a:moveTo>
                  <a:pt x="3600" y="0"/>
                </a:moveTo>
                <a:arcTo wR="3600" hR="3600" stAng="16200000" swAng="-5400000"/>
                <a:lnTo>
                  <a:pt x="0" y="25196"/>
                </a:lnTo>
                <a:arcTo wR="3600" hR="3600" stAng="10800000" swAng="-5400000"/>
                <a:lnTo>
                  <a:pt x="18000" y="28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ойная яд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деляет яд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мое 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жде вс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ромосомы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итопла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2411280" y="3141720"/>
            <a:ext cx="2017800" cy="251928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6967">
                <a:moveTo>
                  <a:pt x="3600" y="0"/>
                </a:moveTo>
                <a:arcTo wR="3600" hR="3600" stAng="16200000" swAng="-5400000"/>
                <a:lnTo>
                  <a:pt x="0" y="23367"/>
                </a:lnTo>
                <a:arcTo wR="3600" hR="3600" stAng="10800000" swAng="-5400000"/>
                <a:lnTo>
                  <a:pt x="18000" y="26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дерный с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личные 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иче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4716360" y="3573360"/>
            <a:ext cx="2017800" cy="259236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592360"/>
              <a:gd name="textAreaBottom" fmla="*/ 2494080 h 2592360"/>
            </a:gdLst>
            <a:ahLst/>
            <a:rect l="textAreaLeft" t="textAreaTop" r="textAreaRight" b="textAreaBottom"/>
            <a:pathLst>
              <a:path w="21600" h="27749">
                <a:moveTo>
                  <a:pt x="3600" y="0"/>
                </a:moveTo>
                <a:arcTo wR="3600" hR="3600" stAng="16200000" swAng="-5400000"/>
                <a:lnTo>
                  <a:pt x="0" y="24149"/>
                </a:lnTo>
                <a:arcTo wR="3600" hR="3600" stAng="10800000" swAng="-5400000"/>
                <a:lnTo>
                  <a:pt x="18000" y="277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пирализ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6948360" y="3213000"/>
            <a:ext cx="2017800" cy="2448000"/>
          </a:xfrm>
          <a:custGeom>
            <a:avLst/>
            <a:gdLst>
              <a:gd name="textAreaLeft" fmla="*/ 98280 w 2017800"/>
              <a:gd name="textAreaRight" fmla="*/ 1919520 w 2017800"/>
              <a:gd name="textAreaTop" fmla="*/ 98280 h 2448000"/>
              <a:gd name="textAreaBottom" fmla="*/ 2349720 h 2448000"/>
            </a:gdLst>
            <a:ahLst/>
            <a:rect l="textAreaLeft" t="textAreaTop" r="textAreaRight" b="textAreaBottom"/>
            <a:pathLst>
              <a:path w="21600" h="26204">
                <a:moveTo>
                  <a:pt x="3600" y="0"/>
                </a:moveTo>
                <a:arcTo wR="3600" hR="3600" stAng="16200000" swAng="-5400000"/>
                <a:lnTo>
                  <a:pt x="0" y="22604"/>
                </a:lnTo>
                <a:arcTo wR="3600" hR="3600" stAng="10800000" swAng="-5400000"/>
                <a:lnTo>
                  <a:pt x="18000" y="262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глые тель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РНК и бел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 сб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б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1619280" y="1125360"/>
            <a:ext cx="431640" cy="1079640"/>
          </a:xfrm>
          <a:prstGeom prst="downArrow">
            <a:avLst>
              <a:gd name="adj1" fmla="val 50000"/>
              <a:gd name="adj2" fmla="val 62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5580000" y="1197000"/>
            <a:ext cx="432000" cy="1079640"/>
          </a:xfrm>
          <a:prstGeom prst="downArrow">
            <a:avLst>
              <a:gd name="adj1" fmla="val 50000"/>
              <a:gd name="adj2" fmla="val 62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276720" y="1125360"/>
            <a:ext cx="431640" cy="648000"/>
          </a:xfrm>
          <a:prstGeom prst="down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164360" y="119700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Цитоплазм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39640" y="170028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топла́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(от греч. Итос — сосуд, здесь — клетка и плазма — образование) внутренняя среда живой клетки, ограниченная плазматической мембра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1"/>
          <p:cNvPicPr/>
          <p:nvPr/>
        </p:nvPicPr>
        <p:blipFill>
          <a:blip r:embed="rId2"/>
          <a:stretch/>
        </p:blipFill>
        <p:spPr>
          <a:xfrm>
            <a:off x="3635280" y="260280"/>
            <a:ext cx="4684680" cy="63817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0"/>
          <p:cNvSpPr/>
          <p:nvPr/>
        </p:nvSpPr>
        <p:spPr>
          <a:xfrm rot="19418400">
            <a:off x="2484360" y="6021000"/>
            <a:ext cx="936720" cy="4320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23229 -0.24143 E">
                                      <p:cBhvr>
                                        <p:cTn id="418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Times New Roman"/>
              </a:rPr>
              <a:t>Цитоскеле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1471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итоплазма эукариотических клеток пронизана трехмерной сеткой из белковых нитей (филаментов), называемой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цитоскелетом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611280" y="4005360"/>
            <a:ext cx="3024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66"/>
                </a:solidFill>
                <a:latin typeface="Times New Roman"/>
              </a:rPr>
              <a:t>Цитоскелет эукариот. Актиновые микрофиламенты окрашены в красный, микротрубочки — в зеленый, ядра клеток — в голубо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Цитоскелет эукариот. Актиновые микрофиламенты окрашены в красный, микротрубочки — в зеленый, ядра клеток — в голубой цвет."/>
          <p:cNvPicPr/>
          <p:nvPr/>
        </p:nvPicPr>
        <p:blipFill>
          <a:blip r:embed="rId2"/>
          <a:stretch/>
        </p:blipFill>
        <p:spPr>
          <a:xfrm>
            <a:off x="5292720" y="2924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3394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ератиновые промежуточные филаменты в клетк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Кератиновые промежуточные филаменты в клетке."/>
          <p:cNvPicPr/>
          <p:nvPr/>
        </p:nvPicPr>
        <p:blipFill>
          <a:blip r:embed="rId2"/>
          <a:stretch/>
        </p:blipFill>
        <p:spPr>
          <a:xfrm>
            <a:off x="3564000" y="836640"/>
            <a:ext cx="52941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Функции цитоплазм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мещает вместе с собой различные вещества, включения и органои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ей протекают все процессы обмена веще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ейшая роль цитоплазмы заключается в объединении всех клеточных структур (компонентов) и обеспечении их химическ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Прямоугольник 1" descr=""/>
          <p:cNvPicPr/>
          <p:nvPr/>
        </p:nvPicPr>
        <p:blipFill>
          <a:blip r:embed="rId2"/>
          <a:stretch/>
        </p:blipFill>
        <p:spPr>
          <a:xfrm>
            <a:off x="2505240" y="30240"/>
            <a:ext cx="4151160" cy="828720"/>
          </a:xfrm>
          <a:prstGeom prst="rect">
            <a:avLst/>
          </a:prstGeom>
          <a:ln w="0">
            <a:noFill/>
          </a:ln>
        </p:spPr>
      </p:pic>
      <p:grpSp>
        <p:nvGrpSpPr>
          <p:cNvPr id="244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4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Белки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Амино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6"/>
          <p:cNvSpPr/>
          <p:nvPr/>
        </p:nvSpPr>
        <p:spPr>
          <a:xfrm>
            <a:off x="5357880" y="335772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инт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доспецифических бе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миозин, козеин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рганоиды клеток тела, мембраны, фер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Скругленный прямоугольник 8"/>
          <p:cNvGrpSpPr/>
          <p:nvPr/>
        </p:nvGrpSpPr>
        <p:grpSpPr>
          <a:xfrm>
            <a:off x="5297400" y="2676600"/>
            <a:ext cx="3328920" cy="755640"/>
            <a:chOff x="5297400" y="2676600"/>
            <a:chExt cx="3328920" cy="755640"/>
          </a:xfrm>
        </p:grpSpPr>
        <p:pic>
          <p:nvPicPr>
            <p:cNvPr id="253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297400" y="267660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389560" y="274644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56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59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62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Стрелка вниз 12"/>
          <p:cNvGrpSpPr/>
          <p:nvPr/>
        </p:nvGrpSpPr>
        <p:grpSpPr>
          <a:xfrm>
            <a:off x="6656400" y="4535640"/>
            <a:ext cx="615960" cy="536400"/>
            <a:chOff x="6656400" y="4535640"/>
            <a:chExt cx="615960" cy="536400"/>
          </a:xfrm>
        </p:grpSpPr>
        <p:pic>
          <p:nvPicPr>
            <p:cNvPr id="265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656400" y="4535640"/>
              <a:ext cx="6159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40360" y="457200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268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пе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желу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трипсин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Прямая со стрелкой 17"/>
          <p:cNvCxnSpPr>
            <a:stCxn id="270" idx="1"/>
            <a:endCxn id="247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Прямая со стрелкой 20"/>
          <p:cNvCxnSpPr>
            <a:stCxn id="271" idx="1"/>
            <a:endCxn id="247" idx="3"/>
          </p:cNvCxnSpPr>
          <p:nvPr/>
        </p:nvCxnSpPr>
        <p:spPr>
          <a:xfrm flipH="1">
            <a:off x="3499920" y="2149560"/>
            <a:ext cx="50112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TextBox 24"/>
          <p:cNvSpPr/>
          <p:nvPr/>
        </p:nvSpPr>
        <p:spPr>
          <a:xfrm>
            <a:off x="428760" y="528624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белк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Прямоугольник 1" descr=""/>
          <p:cNvPicPr/>
          <p:nvPr/>
        </p:nvPicPr>
        <p:blipFill>
          <a:blip r:embed="rId2"/>
          <a:stretch/>
        </p:blipFill>
        <p:spPr>
          <a:xfrm>
            <a:off x="2560680" y="30240"/>
            <a:ext cx="4048200" cy="828720"/>
          </a:xfrm>
          <a:prstGeom prst="rect">
            <a:avLst/>
          </a:prstGeom>
          <a:ln w="0">
            <a:noFill/>
          </a:ln>
        </p:spPr>
      </p:pic>
      <p:grpSp>
        <p:nvGrpSpPr>
          <p:cNvPr id="276" name="Скругленный прямоугольник 2"/>
          <p:cNvGrpSpPr/>
          <p:nvPr/>
        </p:nvGrpSpPr>
        <p:grpSpPr>
          <a:xfrm>
            <a:off x="225360" y="963720"/>
            <a:ext cx="3328920" cy="755640"/>
            <a:chOff x="225360" y="963720"/>
            <a:chExt cx="3328920" cy="755640"/>
          </a:xfrm>
        </p:grpSpPr>
        <p:pic>
          <p:nvPicPr>
            <p:cNvPr id="277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963720"/>
              <a:ext cx="3328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17520" y="1031760"/>
              <a:ext cx="315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Липи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Скругленный прямоугольник 3"/>
          <p:cNvSpPr/>
          <p:nvPr/>
        </p:nvSpPr>
        <p:spPr>
          <a:xfrm>
            <a:off x="285840" y="20001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4"/>
          <p:cNvSpPr/>
          <p:nvPr/>
        </p:nvSpPr>
        <p:spPr>
          <a:xfrm>
            <a:off x="285840" y="307188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ные кислоты, глицер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5"/>
          <p:cNvSpPr/>
          <p:nvPr/>
        </p:nvSpPr>
        <p:spPr>
          <a:xfrm>
            <a:off x="285840" y="4071960"/>
            <a:ext cx="32144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Лимфа. Кров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6"/>
          <p:cNvSpPr/>
          <p:nvPr/>
        </p:nvSpPr>
        <p:spPr>
          <a:xfrm>
            <a:off x="5429160" y="3429000"/>
            <a:ext cx="32148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Синтет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7"/>
          <p:cNvSpPr/>
          <p:nvPr/>
        </p:nvSpPr>
        <p:spPr>
          <a:xfrm>
            <a:off x="5429160" y="4929120"/>
            <a:ext cx="32148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Жировое депо (сальник, подкожная клетчат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Скругленный прямоугольник 8"/>
          <p:cNvGrpSpPr/>
          <p:nvPr/>
        </p:nvGrpSpPr>
        <p:grpSpPr>
          <a:xfrm>
            <a:off x="5370480" y="2822400"/>
            <a:ext cx="3328920" cy="749520"/>
            <a:chOff x="5370480" y="2822400"/>
            <a:chExt cx="3328920" cy="749520"/>
          </a:xfrm>
        </p:grpSpPr>
        <p:pic>
          <p:nvPicPr>
            <p:cNvPr id="285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5370480" y="2822400"/>
              <a:ext cx="3328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460840" y="2889360"/>
              <a:ext cx="3151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Стрелка вниз 9"/>
          <p:cNvGrpSpPr/>
          <p:nvPr/>
        </p:nvGrpSpPr>
        <p:grpSpPr>
          <a:xfrm>
            <a:off x="1511280" y="1609560"/>
            <a:ext cx="615960" cy="536760"/>
            <a:chOff x="1511280" y="1609560"/>
            <a:chExt cx="615960" cy="536760"/>
          </a:xfrm>
        </p:grpSpPr>
        <p:pic>
          <p:nvPicPr>
            <p:cNvPr id="288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1609560"/>
              <a:ext cx="615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697040" y="1643040"/>
              <a:ext cx="2491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Стрелка вниз 10"/>
          <p:cNvGrpSpPr/>
          <p:nvPr/>
        </p:nvGrpSpPr>
        <p:grpSpPr>
          <a:xfrm>
            <a:off x="1584360" y="2610000"/>
            <a:ext cx="615960" cy="534960"/>
            <a:chOff x="1584360" y="2610000"/>
            <a:chExt cx="615960" cy="534960"/>
          </a:xfrm>
        </p:grpSpPr>
        <p:pic>
          <p:nvPicPr>
            <p:cNvPr id="291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84360" y="2610000"/>
              <a:ext cx="61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768320" y="2643120"/>
              <a:ext cx="249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Стрелка вниз 11"/>
          <p:cNvGrpSpPr/>
          <p:nvPr/>
        </p:nvGrpSpPr>
        <p:grpSpPr>
          <a:xfrm>
            <a:off x="1584360" y="3676680"/>
            <a:ext cx="615960" cy="541440"/>
            <a:chOff x="1584360" y="3676680"/>
            <a:chExt cx="615960" cy="541440"/>
          </a:xfrm>
        </p:grpSpPr>
        <p:pic>
          <p:nvPicPr>
            <p:cNvPr id="294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84360" y="3676680"/>
              <a:ext cx="6159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768320" y="3714840"/>
              <a:ext cx="249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Стрелка вниз 12"/>
          <p:cNvGrpSpPr/>
          <p:nvPr/>
        </p:nvGrpSpPr>
        <p:grpSpPr>
          <a:xfrm>
            <a:off x="6724800" y="4608360"/>
            <a:ext cx="614160" cy="536760"/>
            <a:chOff x="6724800" y="4608360"/>
            <a:chExt cx="614160" cy="536760"/>
          </a:xfrm>
        </p:grpSpPr>
        <p:pic>
          <p:nvPicPr>
            <p:cNvPr id="297" name="Стрелка вниз 12" descr=""/>
            <p:cNvPicPr/>
            <p:nvPr/>
          </p:nvPicPr>
          <p:blipFill>
            <a:blip r:embed="rId8"/>
            <a:stretch/>
          </p:blipFill>
          <p:spPr>
            <a:xfrm>
              <a:off x="6724800" y="4608360"/>
              <a:ext cx="614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6912000" y="4643280"/>
              <a:ext cx="249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трелка вниз 13"/>
          <p:cNvGrpSpPr/>
          <p:nvPr/>
        </p:nvGrpSpPr>
        <p:grpSpPr>
          <a:xfrm>
            <a:off x="3938760" y="4035600"/>
            <a:ext cx="547560" cy="609480"/>
            <a:chOff x="3938760" y="4035600"/>
            <a:chExt cx="547560" cy="609480"/>
          </a:xfrm>
        </p:grpSpPr>
        <p:pic>
          <p:nvPicPr>
            <p:cNvPr id="300" name="Стрелка вниз 13" descr=""/>
            <p:cNvPicPr/>
            <p:nvPr/>
          </p:nvPicPr>
          <p:blipFill>
            <a:blip r:embed="rId9"/>
            <a:stretch/>
          </p:blipFill>
          <p:spPr>
            <a:xfrm>
              <a:off x="3938760" y="4035600"/>
              <a:ext cx="5475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6200000">
              <a:off x="4034520" y="416124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4"/>
          <p:cNvSpPr/>
          <p:nvPr/>
        </p:nvSpPr>
        <p:spPr>
          <a:xfrm>
            <a:off x="4000680" y="1143000"/>
            <a:ext cx="2214360" cy="58068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липаза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в 12-перстной киш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4000680" y="1857240"/>
            <a:ext cx="2214360" cy="106740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ецитиназа, лип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Прямая со стрелкой 17"/>
          <p:cNvCxnSpPr>
            <a:stCxn id="302" idx="1"/>
            <a:endCxn id="279" idx="3"/>
          </p:cNvCxnSpPr>
          <p:nvPr/>
        </p:nvCxnSpPr>
        <p:spPr>
          <a:xfrm flipH="1">
            <a:off x="3499920" y="1433880"/>
            <a:ext cx="501120" cy="8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Прямая со стрелкой 20"/>
          <p:cNvCxnSpPr>
            <a:stCxn id="303" idx="1"/>
            <a:endCxn id="279" idx="3"/>
          </p:cNvCxnSpPr>
          <p:nvPr/>
        </p:nvCxnSpPr>
        <p:spPr>
          <a:xfrm flipH="1">
            <a:off x="3499920" y="2273400"/>
            <a:ext cx="501120" cy="48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6" name="TextBox 24"/>
          <p:cNvSpPr/>
          <p:nvPr/>
        </p:nvSpPr>
        <p:spPr>
          <a:xfrm>
            <a:off x="285840" y="521496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жира при расщеплении дает 38,9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2"/>
          <a:stretch/>
        </p:blipFill>
        <p:spPr>
          <a:xfrm>
            <a:off x="4017960" y="30240"/>
            <a:ext cx="4888080" cy="828720"/>
          </a:xfrm>
          <a:prstGeom prst="rect">
            <a:avLst/>
          </a:prstGeom>
          <a:ln w="0">
            <a:noFill/>
          </a:ln>
        </p:spPr>
      </p:pic>
      <p:grpSp>
        <p:nvGrpSpPr>
          <p:cNvPr id="308" name="Скругленный прямоугольник 2"/>
          <p:cNvGrpSpPr/>
          <p:nvPr/>
        </p:nvGrpSpPr>
        <p:grpSpPr>
          <a:xfrm>
            <a:off x="225360" y="249120"/>
            <a:ext cx="3328920" cy="750960"/>
            <a:chOff x="225360" y="249120"/>
            <a:chExt cx="3328920" cy="750960"/>
          </a:xfrm>
        </p:grpSpPr>
        <p:pic>
          <p:nvPicPr>
            <p:cNvPr id="309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225360" y="249120"/>
              <a:ext cx="332892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317520" y="31752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Углеводы пищ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3"/>
          <p:cNvSpPr/>
          <p:nvPr/>
        </p:nvSpPr>
        <p:spPr>
          <a:xfrm>
            <a:off x="285840" y="128592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ищеварительный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4"/>
          <p:cNvSpPr/>
          <p:nvPr/>
        </p:nvSpPr>
        <p:spPr>
          <a:xfrm>
            <a:off x="285840" y="214308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5"/>
          <p:cNvSpPr/>
          <p:nvPr/>
        </p:nvSpPr>
        <p:spPr>
          <a:xfrm>
            <a:off x="285840" y="3714840"/>
            <a:ext cx="321444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ечень (гликог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Мышц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6"/>
          <p:cNvSpPr/>
          <p:nvPr/>
        </p:nvSpPr>
        <p:spPr>
          <a:xfrm>
            <a:off x="4714920" y="3643200"/>
            <a:ext cx="32148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Окисление с выделением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Скругленный прямоугольник 8"/>
          <p:cNvGrpSpPr/>
          <p:nvPr/>
        </p:nvGrpSpPr>
        <p:grpSpPr>
          <a:xfrm>
            <a:off x="4651200" y="2962440"/>
            <a:ext cx="3333960" cy="755640"/>
            <a:chOff x="4651200" y="2962440"/>
            <a:chExt cx="3333960" cy="755640"/>
          </a:xfrm>
        </p:grpSpPr>
        <p:pic>
          <p:nvPicPr>
            <p:cNvPr id="31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651200" y="2962440"/>
              <a:ext cx="3333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746600" y="3032280"/>
              <a:ext cx="315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nstantia"/>
                </a:rPr>
                <a:t>Клет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Стрелка вниз 9"/>
          <p:cNvGrpSpPr/>
          <p:nvPr/>
        </p:nvGrpSpPr>
        <p:grpSpPr>
          <a:xfrm>
            <a:off x="1511280" y="890640"/>
            <a:ext cx="615960" cy="468360"/>
            <a:chOff x="1511280" y="890640"/>
            <a:chExt cx="615960" cy="468360"/>
          </a:xfrm>
        </p:grpSpPr>
        <p:pic>
          <p:nvPicPr>
            <p:cNvPr id="319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1511280" y="890640"/>
              <a:ext cx="61596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1697040" y="92880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Стрелка вниз 10"/>
          <p:cNvGrpSpPr/>
          <p:nvPr/>
        </p:nvGrpSpPr>
        <p:grpSpPr>
          <a:xfrm>
            <a:off x="1511280" y="1749600"/>
            <a:ext cx="615960" cy="469800"/>
            <a:chOff x="1511280" y="1749600"/>
            <a:chExt cx="615960" cy="469800"/>
          </a:xfrm>
        </p:grpSpPr>
        <p:pic>
          <p:nvPicPr>
            <p:cNvPr id="322" name="Стрелка вниз 10" descr=""/>
            <p:cNvPicPr/>
            <p:nvPr/>
          </p:nvPicPr>
          <p:blipFill>
            <a:blip r:embed="rId6"/>
            <a:stretch/>
          </p:blipFill>
          <p:spPr>
            <a:xfrm>
              <a:off x="1511280" y="1749600"/>
              <a:ext cx="6159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697040" y="178596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Стрелка вниз 11"/>
          <p:cNvGrpSpPr/>
          <p:nvPr/>
        </p:nvGrpSpPr>
        <p:grpSpPr>
          <a:xfrm>
            <a:off x="1511280" y="2610000"/>
            <a:ext cx="615960" cy="461880"/>
            <a:chOff x="1511280" y="2610000"/>
            <a:chExt cx="615960" cy="461880"/>
          </a:xfrm>
        </p:grpSpPr>
        <p:pic>
          <p:nvPicPr>
            <p:cNvPr id="325" name="Стрелка вниз 11" descr=""/>
            <p:cNvPicPr/>
            <p:nvPr/>
          </p:nvPicPr>
          <p:blipFill>
            <a:blip r:embed="rId7"/>
            <a:stretch/>
          </p:blipFill>
          <p:spPr>
            <a:xfrm>
              <a:off x="1511280" y="2610000"/>
              <a:ext cx="6159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697040" y="2643120"/>
              <a:ext cx="2491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Стрелка вниз 13"/>
          <p:cNvGrpSpPr/>
          <p:nvPr/>
        </p:nvGrpSpPr>
        <p:grpSpPr>
          <a:xfrm>
            <a:off x="3724200" y="4675320"/>
            <a:ext cx="542880" cy="609480"/>
            <a:chOff x="3724200" y="4675320"/>
            <a:chExt cx="542880" cy="609480"/>
          </a:xfrm>
        </p:grpSpPr>
        <p:pic>
          <p:nvPicPr>
            <p:cNvPr id="328" name="Стрелка вниз 13" descr=""/>
            <p:cNvPicPr/>
            <p:nvPr/>
          </p:nvPicPr>
          <p:blipFill>
            <a:blip r:embed="rId8"/>
            <a:stretch/>
          </p:blipFill>
          <p:spPr>
            <a:xfrm>
              <a:off x="3724200" y="467532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16200000">
              <a:off x="3820320" y="4804200"/>
              <a:ext cx="2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14"/>
          <p:cNvSpPr/>
          <p:nvPr/>
        </p:nvSpPr>
        <p:spPr>
          <a:xfrm>
            <a:off x="4000680" y="85716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тиалин, мальтаз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в ротовой 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4000680" y="1857240"/>
            <a:ext cx="2214360" cy="824040"/>
          </a:xfrm>
          <a:prstGeom prst="rect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Фермент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амилаза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в тонком кишеч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Прямая со стрелкой 17"/>
          <p:cNvCxnSpPr>
            <a:stCxn id="330" idx="1"/>
            <a:endCxn id="311" idx="3"/>
          </p:cNvCxnSpPr>
          <p:nvPr/>
        </p:nvCxnSpPr>
        <p:spPr>
          <a:xfrm flipH="1">
            <a:off x="3499920" y="1272240"/>
            <a:ext cx="501120" cy="26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3" name="Прямая со стрелкой 20"/>
          <p:cNvCxnSpPr>
            <a:stCxn id="331" idx="1"/>
            <a:endCxn id="311" idx="3"/>
          </p:cNvCxnSpPr>
          <p:nvPr/>
        </p:nvCxnSpPr>
        <p:spPr>
          <a:xfrm flipH="1" flipV="1">
            <a:off x="3499920" y="1534320"/>
            <a:ext cx="501120" cy="615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TextBox 24"/>
          <p:cNvSpPr/>
          <p:nvPr/>
        </p:nvSpPr>
        <p:spPr>
          <a:xfrm>
            <a:off x="285840" y="5357880"/>
            <a:ext cx="3000240" cy="1373760"/>
          </a:xfrm>
          <a:prstGeom prst="rect">
            <a:avLst/>
          </a:prstGeom>
          <a:solidFill>
            <a:srgbClr val="6699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г углевода при расщеплении дает 17,6 кД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6"/>
          <p:cNvSpPr/>
          <p:nvPr/>
        </p:nvSpPr>
        <p:spPr>
          <a:xfrm>
            <a:off x="214200" y="4714920"/>
            <a:ext cx="3214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Глюко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Стрелка вниз 29"/>
          <p:cNvGrpSpPr/>
          <p:nvPr/>
        </p:nvGrpSpPr>
        <p:grpSpPr>
          <a:xfrm>
            <a:off x="1511280" y="4395960"/>
            <a:ext cx="615960" cy="388800"/>
            <a:chOff x="1511280" y="4395960"/>
            <a:chExt cx="615960" cy="388800"/>
          </a:xfrm>
        </p:grpSpPr>
        <p:pic>
          <p:nvPicPr>
            <p:cNvPr id="337" name="Стрелка вниз 29" descr=""/>
            <p:cNvPicPr/>
            <p:nvPr/>
          </p:nvPicPr>
          <p:blipFill>
            <a:blip r:embed="rId9"/>
            <a:stretch/>
          </p:blipFill>
          <p:spPr>
            <a:xfrm>
              <a:off x="1511280" y="4395960"/>
              <a:ext cx="615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697040" y="4429080"/>
              <a:ext cx="249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Скругленный прямоугольник 34"/>
          <p:cNvSpPr/>
          <p:nvPr/>
        </p:nvSpPr>
        <p:spPr>
          <a:xfrm>
            <a:off x="285840" y="3000240"/>
            <a:ext cx="321444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Кров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Стрелка вниз 35"/>
          <p:cNvGrpSpPr/>
          <p:nvPr/>
        </p:nvGrpSpPr>
        <p:grpSpPr>
          <a:xfrm>
            <a:off x="1511280" y="3462480"/>
            <a:ext cx="615960" cy="396720"/>
            <a:chOff x="1511280" y="3462480"/>
            <a:chExt cx="615960" cy="396720"/>
          </a:xfrm>
        </p:grpSpPr>
        <p:pic>
          <p:nvPicPr>
            <p:cNvPr id="341" name="Стрелка вниз 35" descr=""/>
            <p:cNvPicPr/>
            <p:nvPr/>
          </p:nvPicPr>
          <p:blipFill>
            <a:blip r:embed="rId10"/>
            <a:stretch/>
          </p:blipFill>
          <p:spPr>
            <a:xfrm>
              <a:off x="1511280" y="3462480"/>
              <a:ext cx="6159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697040" y="3500280"/>
              <a:ext cx="249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Стрелка вниз 36"/>
          <p:cNvGrpSpPr/>
          <p:nvPr/>
        </p:nvGrpSpPr>
        <p:grpSpPr>
          <a:xfrm>
            <a:off x="3724200" y="2962440"/>
            <a:ext cx="542880" cy="609480"/>
            <a:chOff x="3724200" y="2962440"/>
            <a:chExt cx="542880" cy="609480"/>
          </a:xfrm>
        </p:grpSpPr>
        <p:pic>
          <p:nvPicPr>
            <p:cNvPr id="344" name="Стрелка вниз 36" descr=""/>
            <p:cNvPicPr/>
            <p:nvPr/>
          </p:nvPicPr>
          <p:blipFill>
            <a:blip r:embed="rId11"/>
            <a:stretch/>
          </p:blipFill>
          <p:spPr>
            <a:xfrm>
              <a:off x="3724200" y="2962440"/>
              <a:ext cx="5428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16200000">
              <a:off x="3820320" y="3089880"/>
              <a:ext cx="25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угольник 1" descr=""/>
          <p:cNvPicPr/>
          <p:nvPr/>
        </p:nvPicPr>
        <p:blipFill>
          <a:blip r:embed="rId2"/>
          <a:stretch/>
        </p:blipFill>
        <p:spPr>
          <a:xfrm>
            <a:off x="1494000" y="92160"/>
            <a:ext cx="6821280" cy="895320"/>
          </a:xfrm>
          <a:prstGeom prst="rect">
            <a:avLst/>
          </a:prstGeom>
          <a:ln w="0">
            <a:noFill/>
          </a:ln>
        </p:spPr>
      </p:pic>
      <p:grpSp>
        <p:nvGrpSpPr>
          <p:cNvPr id="347" name="Скругленный прямоугольник 2"/>
          <p:cNvGrpSpPr/>
          <p:nvPr/>
        </p:nvGrpSpPr>
        <p:grpSpPr>
          <a:xfrm>
            <a:off x="3651120" y="1463760"/>
            <a:ext cx="1768680" cy="755640"/>
            <a:chOff x="3651120" y="1463760"/>
            <a:chExt cx="1768680" cy="755640"/>
          </a:xfrm>
        </p:grpSpPr>
        <p:pic>
          <p:nvPicPr>
            <p:cNvPr id="348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651120" y="146376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746520" y="1531800"/>
              <a:ext cx="1579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Мет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Скругленный прямоугольник 3"/>
          <p:cNvGrpSpPr/>
          <p:nvPr/>
        </p:nvGrpSpPr>
        <p:grpSpPr>
          <a:xfrm>
            <a:off x="298440" y="1438200"/>
            <a:ext cx="2682720" cy="781200"/>
            <a:chOff x="298440" y="1438200"/>
            <a:chExt cx="2682720" cy="781200"/>
          </a:xfrm>
        </p:grpSpPr>
        <p:pic>
          <p:nvPicPr>
            <p:cNvPr id="351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298440" y="1438200"/>
              <a:ext cx="268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388800" y="1531800"/>
              <a:ext cx="250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Катабо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Ди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Скругленный прямоугольник 4"/>
          <p:cNvGrpSpPr/>
          <p:nvPr/>
        </p:nvGrpSpPr>
        <p:grpSpPr>
          <a:xfrm>
            <a:off x="6083280" y="1438200"/>
            <a:ext cx="2828880" cy="781200"/>
            <a:chOff x="6083280" y="1438200"/>
            <a:chExt cx="2828880" cy="781200"/>
          </a:xfrm>
        </p:grpSpPr>
        <p:pic>
          <p:nvPicPr>
            <p:cNvPr id="354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6083280" y="1438200"/>
              <a:ext cx="28288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175440" y="1531800"/>
              <a:ext cx="26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Анабол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</a:rPr>
                <a:t>(ассимиляци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Штриховая стрелка вправо 5"/>
          <p:cNvSpPr/>
          <p:nvPr/>
        </p:nvSpPr>
        <p:spPr>
          <a:xfrm>
            <a:off x="557208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Штриховая стрелка вправо 6"/>
          <p:cNvSpPr/>
          <p:nvPr/>
        </p:nvSpPr>
        <p:spPr>
          <a:xfrm flipH="1">
            <a:off x="3143160" y="1643040"/>
            <a:ext cx="357120" cy="428760"/>
          </a:xfrm>
          <a:prstGeom prst="pie">
            <a:avLst/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1214280" y="214308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Животные и растительные белки, жиры, углеводы, 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214800" y="235728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Распад органически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для получения энер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7215120" y="235728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троен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орг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214200" y="2286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642960" y="22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12"/>
          <p:cNvSpPr/>
          <p:nvPr/>
        </p:nvSpPr>
        <p:spPr>
          <a:xfrm>
            <a:off x="214200" y="3714840"/>
            <a:ext cx="2786040" cy="150012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низ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3"/>
          <p:cNvSpPr/>
          <p:nvPr/>
        </p:nvSpPr>
        <p:spPr>
          <a:xfrm>
            <a:off x="6215040" y="3714840"/>
            <a:ext cx="2786040" cy="1571400"/>
          </a:xfrm>
          <a:prstGeom prst="ellipse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nstantia"/>
              </a:rPr>
              <a:t>Получение высокомолекулярных вещ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Прямая со стрелкой 15"/>
          <p:cNvCxnSpPr/>
          <p:nvPr/>
        </p:nvCxnSpPr>
        <p:spPr>
          <a:xfrm flipV="1">
            <a:off x="7143840" y="2356920"/>
            <a:ext cx="2160" cy="1431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66" name="Скругленный прямоугольник 17"/>
          <p:cNvSpPr/>
          <p:nvPr/>
        </p:nvSpPr>
        <p:spPr>
          <a:xfrm>
            <a:off x="142920" y="2928960"/>
            <a:ext cx="9288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при дых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18"/>
          <p:cNvSpPr/>
          <p:nvPr/>
        </p:nvSpPr>
        <p:spPr>
          <a:xfrm>
            <a:off x="1214280" y="2928960"/>
            <a:ext cx="1785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Получаем с      пищ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19"/>
          <p:cNvSpPr/>
          <p:nvPr/>
        </p:nvSpPr>
        <p:spPr>
          <a:xfrm>
            <a:off x="785880" y="5429160"/>
            <a:ext cx="178596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Выделяем       во внешнюю сре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0"/>
          <p:cNvSpPr/>
          <p:nvPr/>
        </p:nvSpPr>
        <p:spPr>
          <a:xfrm>
            <a:off x="2142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СО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928800" y="614376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Н2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1500120" y="614376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Продукты расп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Прямая со стрелкой 24"/>
          <p:cNvCxnSpPr/>
          <p:nvPr/>
        </p:nvCxnSpPr>
        <p:spPr>
          <a:xfrm flipH="1">
            <a:off x="285120" y="2643120"/>
            <a:ext cx="1080" cy="1572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3" name="Прямая со стрелкой 28"/>
          <p:cNvCxnSpPr/>
          <p:nvPr/>
        </p:nvCxnSpPr>
        <p:spPr>
          <a:xfrm flipH="1">
            <a:off x="928080" y="2571840"/>
            <a:ext cx="1080" cy="1286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4" name="Прямая со стрелкой 29"/>
          <p:cNvCxnSpPr/>
          <p:nvPr/>
        </p:nvCxnSpPr>
        <p:spPr>
          <a:xfrm flipH="1">
            <a:off x="2285280" y="2857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5" name="Прямая со стрелкой 34"/>
          <p:cNvCxnSpPr/>
          <p:nvPr/>
        </p:nvCxnSpPr>
        <p:spPr>
          <a:xfrm flipH="1">
            <a:off x="499320" y="4928760"/>
            <a:ext cx="108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6" name="Прямая со стрелкой 37"/>
          <p:cNvCxnSpPr/>
          <p:nvPr/>
        </p:nvCxnSpPr>
        <p:spPr>
          <a:xfrm flipH="1">
            <a:off x="1071000" y="5143320"/>
            <a:ext cx="1080" cy="929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77" name="Прямая со стрелкой 39"/>
          <p:cNvCxnSpPr/>
          <p:nvPr/>
        </p:nvCxnSpPr>
        <p:spPr>
          <a:xfrm>
            <a:off x="2284920" y="5143680"/>
            <a:ext cx="1080" cy="1072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78" name="Овал 43"/>
          <p:cNvSpPr/>
          <p:nvPr/>
        </p:nvSpPr>
        <p:spPr>
          <a:xfrm>
            <a:off x="3071880" y="3857760"/>
            <a:ext cx="135720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Выделя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Овал 44"/>
          <p:cNvSpPr/>
          <p:nvPr/>
        </p:nvSpPr>
        <p:spPr>
          <a:xfrm>
            <a:off x="4786200" y="3857760"/>
            <a:ext cx="1357560" cy="1071360"/>
          </a:xfrm>
          <a:prstGeom prst="ellipse">
            <a:avLst/>
          </a:prstGeom>
          <a:gradFill rotWithShape="0">
            <a:gsLst>
              <a:gs pos="0">
                <a:srgbClr val="ffffc3"/>
              </a:gs>
              <a:gs pos="100000">
                <a:srgbClr val="ffffed"/>
              </a:gs>
            </a:gsLst>
            <a:lin ang="16200000"/>
          </a:gradFill>
          <a:ln w="9360">
            <a:solidFill>
              <a:srgbClr val="de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Запасается энерг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Constantia"/>
              </a:rPr>
              <a:t>(АТФ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45"/>
          <p:cNvSpPr/>
          <p:nvPr/>
        </p:nvSpPr>
        <p:spPr>
          <a:xfrm>
            <a:off x="5643720" y="278604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6"/>
          <p:cNvSpPr/>
          <p:nvPr/>
        </p:nvSpPr>
        <p:spPr>
          <a:xfrm>
            <a:off x="3286080" y="328608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Энергия АТФ исполь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для всех жизн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проце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7"/>
          <p:cNvSpPr/>
          <p:nvPr/>
        </p:nvSpPr>
        <p:spPr>
          <a:xfrm>
            <a:off x="3357720" y="50720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Е химических 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8"/>
          <p:cNvSpPr/>
          <p:nvPr/>
        </p:nvSpPr>
        <p:spPr>
          <a:xfrm>
            <a:off x="2714760" y="56437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Тепловая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9"/>
          <p:cNvSpPr/>
          <p:nvPr/>
        </p:nvSpPr>
        <p:spPr>
          <a:xfrm>
            <a:off x="3429000" y="6000840"/>
            <a:ext cx="264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Синтез органических веществ, свойственных человеку, с поглощением 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гнутая вниз стрелка 61"/>
          <p:cNvSpPr/>
          <p:nvPr/>
        </p:nvSpPr>
        <p:spPr>
          <a:xfrm>
            <a:off x="3286080" y="4929120"/>
            <a:ext cx="2786040" cy="928800"/>
          </a:xfrm>
          <a:custGeom>
            <a:avLst/>
            <a:gdLst>
              <a:gd name="textAreaLeft" fmla="*/ 609480 w 2786040"/>
              <a:gd name="textAreaRight" fmla="*/ 2060640 w 2786040"/>
              <a:gd name="textAreaTop" fmla="*/ 124200 h 928800"/>
              <a:gd name="textAreaBottom" fmla="*/ 804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Выгнутая вниз стрелка 62"/>
          <p:cNvSpPr/>
          <p:nvPr/>
        </p:nvSpPr>
        <p:spPr>
          <a:xfrm flipV="1">
            <a:off x="3143160" y="2857320"/>
            <a:ext cx="3071880" cy="1009440"/>
          </a:xfrm>
          <a:custGeom>
            <a:avLst/>
            <a:gdLst>
              <a:gd name="textAreaLeft" fmla="*/ 673200 w 3071880"/>
              <a:gd name="textAreaRight" fmla="*/ 2272320 w 307188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-3570154"/>
                <a:lnTo>
                  <a:pt x="21299" y="5400"/>
                </a:lnTo>
                <a:lnTo>
                  <a:pt x="19825" y="0"/>
                </a:lnTo>
                <a:lnTo>
                  <a:pt x="17749" y="5400"/>
                </a:lnTo>
                <a:lnTo>
                  <a:pt x="18637" y="5400"/>
                </a:lnTo>
                <a:arcTo wR="9469" hR="21600" stAng="1829846" swAng="3428440"/>
                <a:lnTo>
                  <a:pt x="10356" y="21505"/>
                </a:lnTo>
                <a:arcTo wR="9469" hR="21600" stAng="5541714" swAng="5258286"/>
                <a:close/>
              </a:path>
              <a:path fill="darkenLess" w="21600" h="21600">
                <a:moveTo>
                  <a:pt x="0" y="0"/>
                </a:moveTo>
                <a:arcTo wR="9469" hR="21600" stAng="10800000" swAng="-5400000"/>
                <a:lnTo>
                  <a:pt x="11243" y="21600"/>
                </a:lnTo>
                <a:arcTo wR="9469" hR="21600" stAng="5400000" swAng="141714"/>
                <a:lnTo>
                  <a:pt x="10356" y="21505"/>
                </a:lnTo>
                <a:arcTo wR="9469" hR="21600" stAng="5541714" swAng="5258286"/>
                <a:close/>
              </a:path>
            </a:pathLst>
          </a:cu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углом 64"/>
          <p:cNvSpPr/>
          <p:nvPr/>
        </p:nvSpPr>
        <p:spPr>
          <a:xfrm flipV="1" rot="3043200">
            <a:off x="2710440" y="4994640"/>
            <a:ext cx="928440" cy="42876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углом 66"/>
          <p:cNvSpPr/>
          <p:nvPr/>
        </p:nvSpPr>
        <p:spPr>
          <a:xfrm flipV="1" rot="15028800">
            <a:off x="5750640" y="3365640"/>
            <a:ext cx="928800" cy="428400"/>
          </a:xfrm>
          <a:prstGeom prst="pie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hape 68"/>
          <p:cNvCxnSpPr>
            <a:stCxn id="363" idx="4"/>
            <a:endCxn id="364" idx="4"/>
          </p:cNvCxnSpPr>
          <p:nvPr/>
        </p:nvCxnSpPr>
        <p:spPr>
          <a:xfrm flipH="1" rot="16200000">
            <a:off x="4571280" y="2249280"/>
            <a:ext cx="72000" cy="6003000"/>
          </a:xfrm>
          <a:prstGeom prst="curvedConnector5">
            <a:avLst>
              <a:gd name="adj1" fmla="val 1784422"/>
              <a:gd name="adj2" fmla="val 50000"/>
              <a:gd name="adj3" fmla="val 1784422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90" name="Shape 77"/>
          <p:cNvCxnSpPr>
            <a:stCxn id="364" idx="0"/>
            <a:endCxn id="363" idx="0"/>
          </p:cNvCxnSpPr>
          <p:nvPr/>
        </p:nvCxnSpPr>
        <p:spPr>
          <a:xfrm flipV="1" rot="16200000">
            <a:off x="4607280" y="714600"/>
            <a:ext cx="2160" cy="6001560"/>
          </a:xfrm>
          <a:prstGeom prst="curvedConnector5">
            <a:avLst>
              <a:gd name="adj1" fmla="val 69260000"/>
              <a:gd name="adj2" fmla="val 50000"/>
              <a:gd name="adj3" fmla="val 69260000"/>
            </a:avLst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91" name="TextBox 81"/>
          <p:cNvSpPr/>
          <p:nvPr/>
        </p:nvSpPr>
        <p:spPr>
          <a:xfrm>
            <a:off x="6715080" y="635796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Резанова Е.А. и др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92160"/>
            <a:ext cx="8431200" cy="895320"/>
          </a:xfrm>
          <a:prstGeom prst="rect">
            <a:avLst/>
          </a:prstGeom>
          <a:ln w="0">
            <a:noFill/>
          </a:ln>
        </p:spPr>
      </p:pic>
      <p:sp>
        <p:nvSpPr>
          <p:cNvPr id="393" name="Скругленный прямоугольник 6"/>
          <p:cNvSpPr/>
          <p:nvPr/>
        </p:nvSpPr>
        <p:spPr>
          <a:xfrm>
            <a:off x="500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Механическая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окращение мышц, сердца, диафраг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7"/>
          <p:cNvSpPr/>
          <p:nvPr/>
        </p:nvSpPr>
        <p:spPr>
          <a:xfrm>
            <a:off x="5072040" y="11430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Хим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синтез белков, жиров, углевод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8"/>
          <p:cNvSpPr/>
          <p:nvPr/>
        </p:nvSpPr>
        <p:spPr>
          <a:xfrm>
            <a:off x="500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Электр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ередача информации по нервным волокнам в виде импуль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9"/>
          <p:cNvSpPr/>
          <p:nvPr/>
        </p:nvSpPr>
        <p:spPr>
          <a:xfrm>
            <a:off x="5072040" y="3643200"/>
            <a:ext cx="3429000" cy="214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dbdb"/>
              </a:gs>
              <a:gs pos="100000">
                <a:srgbClr val="ecf5f5"/>
              </a:gs>
            </a:gsLst>
            <a:lin ang="16200000"/>
          </a:gradFill>
          <a:ln w="9360">
            <a:solidFill>
              <a:srgbClr val="5988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Тепл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поддержание постоянной температуры тела, выведение избытка тепла в окружающую сре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3492360" y="5095800"/>
            <a:ext cx="1970280" cy="176868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ая соединительная линия 12"/>
          <p:cNvSpPr/>
          <p:nvPr/>
        </p:nvSpPr>
        <p:spPr>
          <a:xfrm>
            <a:off x="4500720" y="928800"/>
            <a:ext cx="0" cy="3500280"/>
          </a:xfrm>
          <a:prstGeom prst="line">
            <a:avLst/>
          </a:prstGeom>
          <a:ln w="38160">
            <a:solidFill>
              <a:srgbClr val="456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Прямая со стрелкой 14"/>
          <p:cNvCxnSpPr>
            <a:stCxn id="393" idx="3"/>
            <a:endCxn id="394" idx="1"/>
          </p:cNvCxnSpPr>
          <p:nvPr/>
        </p:nvCxnSpPr>
        <p:spPr>
          <a:xfrm>
            <a:off x="3928680" y="2214720"/>
            <a:ext cx="1143720" cy="216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Прямая со стрелкой 15"/>
          <p:cNvCxnSpPr/>
          <p:nvPr/>
        </p:nvCxnSpPr>
        <p:spPr>
          <a:xfrm>
            <a:off x="3928680" y="4428720"/>
            <a:ext cx="1143720" cy="2520"/>
          </a:xfrm>
          <a:prstGeom prst="straightConnector1">
            <a:avLst/>
          </a:prstGeom>
          <a:ln w="38160">
            <a:solidFill>
              <a:srgbClr val="456868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1" name="TextBox 16"/>
          <p:cNvSpPr/>
          <p:nvPr/>
        </p:nvSpPr>
        <p:spPr>
          <a:xfrm>
            <a:off x="6715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onstantia"/>
              </a:rPr>
              <a:t>Л.В.Ёлкина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Основные части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оверхностный комплекс клет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итоплазма и ее свой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lrakk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197000"/>
            <a:ext cx="42609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ассимиляции необходима Е, образующаяся в реакциях энерге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ля реакций диссимиляции необходимы ферменты, образующиеся в реакциях пластическ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ба процесса протекают в клетке одновременно, и заключительные этапы одного обмена – начальные стадии друг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Прямоугольник 3" descr=""/>
          <p:cNvPicPr/>
          <p:nvPr/>
        </p:nvPicPr>
        <p:blipFill>
          <a:blip r:embed="rId2"/>
          <a:stretch/>
        </p:blipFill>
        <p:spPr>
          <a:xfrm>
            <a:off x="469800" y="30240"/>
            <a:ext cx="8223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1. Основные части клет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ерхност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 с ядерным веществом (ДН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пла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клю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190-2.jpg"/>
          <p:cNvPicPr/>
          <p:nvPr/>
        </p:nvPicPr>
        <p:blipFill>
          <a:blip r:embed="rId2"/>
          <a:stretch/>
        </p:blipFill>
        <p:spPr>
          <a:xfrm>
            <a:off x="5651640" y="3141720"/>
            <a:ext cx="3124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5"/>
          <p:cNvSpPr/>
          <p:nvPr/>
        </p:nvSpPr>
        <p:spPr>
          <a:xfrm>
            <a:off x="75564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59280" y="177336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остоя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он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700360" y="333360"/>
            <a:ext cx="4032360" cy="10080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поненты 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 rot="1059000">
            <a:off x="1402920" y="692280"/>
            <a:ext cx="936720" cy="936360"/>
          </a:xfrm>
          <a:custGeom>
            <a:avLst/>
            <a:gdLst>
              <a:gd name="textAreaLeft" fmla="*/ 125280 w 936720"/>
              <a:gd name="textAreaRight" fmla="*/ 811440 w 936720"/>
              <a:gd name="textAreaTop" fmla="*/ 163800 h 936360"/>
              <a:gd name="textAreaBottom" fmla="*/ 67896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 rot="20680800">
            <a:off x="7020000" y="69192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75564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 специ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нно ва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4859280" y="3716280"/>
            <a:ext cx="3529080" cy="1150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гут появляться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чезать в проце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знедеятельности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 rot="5400000">
            <a:off x="2051640" y="2997720"/>
            <a:ext cx="8650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 rot="5400000">
            <a:off x="6299640" y="2998080"/>
            <a:ext cx="8650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>
            <a:off x="75564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4859280" y="5300640"/>
            <a:ext cx="3600360" cy="1008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КЛЮ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 rot="5400000">
            <a:off x="2232720" y="4977360"/>
            <a:ext cx="503280" cy="432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8"/>
          <p:cNvSpPr/>
          <p:nvPr/>
        </p:nvSpPr>
        <p:spPr>
          <a:xfrm rot="5400000">
            <a:off x="6480360" y="4977360"/>
            <a:ext cx="50328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2195640" y="549360"/>
            <a:ext cx="4752720" cy="9349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39640" y="2133720"/>
            <a:ext cx="360072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 об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4932360" y="2133720"/>
            <a:ext cx="3600360" cy="1008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гано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 rot="1059000">
            <a:off x="971640" y="981000"/>
            <a:ext cx="936360" cy="936720"/>
          </a:xfrm>
          <a:custGeom>
            <a:avLst/>
            <a:gdLst>
              <a:gd name="textAreaLeft" fmla="*/ 125280 w 936360"/>
              <a:gd name="textAreaRight" fmla="*/ 811080 w 93636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20680800">
            <a:off x="7164360" y="1052280"/>
            <a:ext cx="863640" cy="863640"/>
          </a:xfrm>
          <a:custGeom>
            <a:avLst/>
            <a:gdLst>
              <a:gd name="textAreaLeft" fmla="*/ 115560 w 863640"/>
              <a:gd name="textAreaRight" fmla="*/ 748080 w 863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539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аст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ы и т.д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5003640" y="3860640"/>
            <a:ext cx="3527640" cy="237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сн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гутик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/>
          <p:cNvSpPr/>
          <p:nvPr/>
        </p:nvSpPr>
        <p:spPr>
          <a:xfrm rot="5400000">
            <a:off x="172692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 rot="5400000">
            <a:off x="6264000" y="3537000"/>
            <a:ext cx="936360" cy="431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Times New Roman"/>
              </a:rPr>
              <a:t>Биологическая мембрана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Picture 8" descr="биомембрана"/>
          <p:cNvPicPr/>
          <p:nvPr/>
        </p:nvPicPr>
        <p:blipFill>
          <a:blip r:embed="rId2"/>
          <a:stretch/>
        </p:blipFill>
        <p:spPr>
          <a:xfrm>
            <a:off x="539640" y="1700280"/>
            <a:ext cx="8167680" cy="4753080"/>
          </a:xfrm>
          <a:prstGeom prst="rect">
            <a:avLst/>
          </a:prstGeom>
          <a:ln w="0">
            <a:noFill/>
          </a:ln>
        </p:spPr>
      </p:pic>
      <p:sp>
        <p:nvSpPr>
          <p:cNvPr id="186" name="Line 9"/>
          <p:cNvSpPr/>
          <p:nvPr/>
        </p:nvSpPr>
        <p:spPr>
          <a:xfrm>
            <a:off x="3780000" y="184464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1187280" y="1413000"/>
            <a:ext cx="3889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лигосахаридная боковая ц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443640" y="1844640"/>
            <a:ext cx="2521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й 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5435640" y="2349360"/>
            <a:ext cx="165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250920" y="566100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лип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97164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2195640" y="6021360"/>
            <a:ext cx="302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й (шаровид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3635280" y="530064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6443640" y="6021360"/>
            <a:ext cx="187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лесте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 flipH="1" flipV="1">
            <a:off x="6803640" y="5589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Times New Roman"/>
              </a:rPr>
              <a:t>Модель Г.Николсона и С.Сингера напоминает мозаику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News_engl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826920" y="1341360"/>
            <a:ext cx="6902640" cy="51548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4140360" y="6222240"/>
            <a:ext cx="47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membranes.nbi.dk/.../News_engl.htm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/>
          <p:cNvSpPr/>
          <p:nvPr/>
        </p:nvSpPr>
        <p:spPr>
          <a:xfrm>
            <a:off x="1187280" y="549360"/>
            <a:ext cx="6553440" cy="8636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ки мемб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395280" y="1989000"/>
            <a:ext cx="2664000" cy="862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мембра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6372360" y="1989000"/>
            <a:ext cx="2376360" cy="865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ру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ифер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3492360" y="1989000"/>
            <a:ext cx="244980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интег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ецептор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68360" y="3429000"/>
            <a:ext cx="2590920" cy="194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ходят через вс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лщу мемб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здают в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идрофильные 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транспорт вещест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2"/>
          <p:cNvSpPr/>
          <p:nvPr/>
        </p:nvSpPr>
        <p:spPr>
          <a:xfrm>
            <a:off x="3276720" y="3429000"/>
            <a:ext cx="273348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гружены в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сфолипи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цептор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6300720" y="3429000"/>
            <a:ext cx="2590920" cy="2016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жат снар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мбраны, примы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 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ногооб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и фер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140328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6"/>
          <p:cNvSpPr/>
          <p:nvPr/>
        </p:nvSpPr>
        <p:spPr>
          <a:xfrm>
            <a:off x="435600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7164360" y="1484280"/>
            <a:ext cx="4334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40328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4427640" y="292428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7236000" y="2924280"/>
            <a:ext cx="433080" cy="504720"/>
          </a:xfrm>
          <a:prstGeom prst="downArrow">
            <a:avLst>
              <a:gd name="adj1" fmla="val 50000"/>
              <a:gd name="adj2" fmla="val 2913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>
            <a:off x="179280" y="5734080"/>
            <a:ext cx="230364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-переносч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2"/>
          <p:cNvSpPr/>
          <p:nvPr/>
        </p:nvSpPr>
        <p:spPr>
          <a:xfrm>
            <a:off x="2700360" y="5734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налообразу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е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3"/>
          <p:cNvSpPr/>
          <p:nvPr/>
        </p:nvSpPr>
        <p:spPr>
          <a:xfrm>
            <a:off x="900000" y="530064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4"/>
          <p:cNvSpPr/>
          <p:nvPr/>
        </p:nvSpPr>
        <p:spPr>
          <a:xfrm rot="19911600">
            <a:off x="2700360" y="5229360"/>
            <a:ext cx="433440" cy="504720"/>
          </a:xfrm>
          <a:prstGeom prst="downArrow">
            <a:avLst>
              <a:gd name="adj1" fmla="val 50000"/>
              <a:gd name="adj2" fmla="val 2911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Times New Roman"/>
              </a:rPr>
              <a:t>Ядро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7" name="Picture 4" descr="Изображение:Diagram human cell nucleus ru.sv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24000" y="495360"/>
            <a:ext cx="777708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1T14:26:35Z</dcterms:created>
  <dc:creator>Долгорукова</dc:creator>
  <dc:description/>
  <dc:language>en-US</dc:language>
  <cp:lastModifiedBy>Пользователь</cp:lastModifiedBy>
  <dcterms:modified xsi:type="dcterms:W3CDTF">2012-11-30T08:46:58Z</dcterms:modified>
  <cp:revision>36</cp:revision>
  <dc:subject/>
  <dc:title>Слайд 1</dc:title>
</cp:coreProperties>
</file>